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406-91BD-40BF-952D-3154D217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116-48EF-40E1-BF31-3BF36A96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F7-4E30-4C0A-A4C7-4AF548F7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473-5FF4-4B3B-BB0A-B4848C9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847-9BED-4DC5-8271-9BEA7E21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99-01AF-439F-AD6A-458F54C3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755-7A00-4E0A-B9C8-B078EFEC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A25-C467-414F-9569-218545F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9DC-7A3F-4E15-A2E0-0BD89842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577-21C2-45C3-9FC8-A229B4A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40E-0EFD-4167-B9D4-B5FD1B2F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738-1201-4D61-99B6-CFA764B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C69E-DE59-469F-BBAD-EFA150237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ّ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28600" y="0"/>
            <a:ext cx="5105520" cy="9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ي قلبك حنّا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 اللي عليِّ سهران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طيني بحبك صير كب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ن قلبي يضل صغ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كِبْرو بمحبة مل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572000" cy="9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قلت بإنجيل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لناس اللي تابعين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لي ما في عندو قلب صغيّر يعرف إنو ي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ّو من تلاميذ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14600" y="506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45720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للحب اخترتو عمري للرب اندرتو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 إكبر عمري يضل من نبعك يغرُف ما يمل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دك يبقى لآخِرت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5:35:46Z</dcterms:created>
  <dc:creator>SUZANNE.MD</dc:creator>
  <dc:description/>
  <dc:language>en-US</dc:language>
  <cp:lastModifiedBy>HANI SAFI</cp:lastModifiedBy>
  <dcterms:modified xsi:type="dcterms:W3CDTF">2003-05-03T04:09:11Z</dcterms:modified>
  <cp:revision>3</cp:revision>
  <dc:subject/>
  <dc:title>PowerPoint Presentation</dc:title>
</cp:coreProperties>
</file>